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FB4-4CB9-43BE-B9D7-9C4028D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7CF-6FAC-4CBF-AE1F-523910B9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ED1-7B68-4829-AA57-FA41219C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5C4-DD32-4BF8-86E8-A90B8A23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D43-E646-4691-B7C7-4307C32C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ADF-2630-45E6-AA80-2D99FD98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8D3-815F-4232-96DD-5F205FA0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DAE-CC94-4FAE-98F0-32BA00E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516-A652-4E11-86F8-9AA7FD0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A84-26FF-45B0-9F37-586987B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1EB-D6DA-43A6-B676-82FB48B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327-BF20-423F-B2A5-9AE0191D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90E-190D-4E37-988E-4593037B8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uolivapaa piirto 7"/>
          <p:cNvSpPr/>
          <p:nvPr/>
        </p:nvSpPr>
        <p:spPr>
          <a:xfrm>
            <a:off x="509436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uolivapaa piirto 9"/>
          <p:cNvSpPr/>
          <p:nvPr/>
        </p:nvSpPr>
        <p:spPr>
          <a:xfrm>
            <a:off x="3805200" y="3927600"/>
            <a:ext cx="1533600" cy="153324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olivapaa piirto 11"/>
          <p:cNvSpPr/>
          <p:nvPr/>
        </p:nvSpPr>
        <p:spPr>
          <a:xfrm>
            <a:off x="2517840" y="1697040"/>
            <a:ext cx="1531800" cy="1531800"/>
          </a:xfrm>
          <a:custGeom>
            <a:avLst/>
            <a:gdLst/>
            <a:ahLst/>
            <a:rect l="l" t="t" r="r" b="b"/>
            <a:pathLst>
              <a:path w="1532929" h="1532929">
                <a:moveTo>
                  <a:pt x="0" y="0"/>
                </a:moveTo>
                <a:lnTo>
                  <a:pt x="1532929" y="0"/>
                </a:lnTo>
                <a:lnTo>
                  <a:pt x="1532929" y="1532929"/>
                </a:lnTo>
                <a:lnTo>
                  <a:pt x="0" y="15329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Ryhmä 22"/>
          <p:cNvGrpSpPr/>
          <p:nvPr/>
        </p:nvGrpSpPr>
        <p:grpSpPr>
          <a:xfrm>
            <a:off x="642960" y="0"/>
            <a:ext cx="8501040" cy="6858000"/>
            <a:chOff x="642960" y="0"/>
            <a:chExt cx="8501040" cy="6858000"/>
          </a:xfrm>
        </p:grpSpPr>
        <p:sp>
          <p:nvSpPr>
            <p:cNvPr id="45" name="Puolivapaa piirto 23"/>
            <p:cNvSpPr/>
            <p:nvPr/>
          </p:nvSpPr>
          <p:spPr>
            <a:xfrm>
              <a:off x="52236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Kehänuoli 24"/>
            <p:cNvGrpSpPr/>
            <p:nvPr/>
          </p:nvGrpSpPr>
          <p:grpSpPr>
            <a:xfrm>
              <a:off x="6993720" y="2288160"/>
              <a:ext cx="2150280" cy="4325760"/>
              <a:chOff x="6993720" y="2288160"/>
              <a:chExt cx="2150280" cy="4325760"/>
            </a:xfrm>
          </p:grpSpPr>
          <p:pic>
            <p:nvPicPr>
              <p:cNvPr id="47" name="Kehänuoli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2760" y="2288160"/>
                <a:ext cx="1101240" cy="43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6993720" y="2533680"/>
                <a:ext cx="1757880" cy="35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Puolivapaa piirto 25"/>
            <p:cNvSpPr/>
            <p:nvPr/>
          </p:nvSpPr>
          <p:spPr>
            <a:xfrm>
              <a:off x="3898080" y="3999600"/>
              <a:ext cx="1577160" cy="16167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Kehänuoli 26"/>
            <p:cNvGrpSpPr/>
            <p:nvPr/>
          </p:nvGrpSpPr>
          <p:grpSpPr>
            <a:xfrm>
              <a:off x="642960" y="3573720"/>
              <a:ext cx="3078000" cy="3284280"/>
              <a:chOff x="642960" y="3573720"/>
              <a:chExt cx="3078000" cy="3284280"/>
            </a:xfrm>
          </p:grpSpPr>
          <p:pic>
            <p:nvPicPr>
              <p:cNvPr id="51" name="Kehänuoli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4363200"/>
                <a:ext cx="2130840" cy="24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344600" y="3573720"/>
                <a:ext cx="2376360" cy="267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Puolivapaa piirto 27"/>
            <p:cNvSpPr/>
            <p:nvPr/>
          </p:nvSpPr>
          <p:spPr>
            <a:xfrm>
              <a:off x="2574000" y="1647720"/>
              <a:ext cx="1575360" cy="1614960"/>
            </a:xfrm>
            <a:custGeom>
              <a:avLst/>
              <a:gdLst/>
              <a:ahLst/>
              <a:rect l="l" t="t" r="r" b="b"/>
              <a:pathLst>
                <a:path w="1532929" h="1532929">
                  <a:moveTo>
                    <a:pt x="0" y="0"/>
                  </a:moveTo>
                  <a:lnTo>
                    <a:pt x="1532929" y="0"/>
                  </a:lnTo>
                  <a:lnTo>
                    <a:pt x="1532929" y="1532929"/>
                  </a:lnTo>
                  <a:lnTo>
                    <a:pt x="0" y="153292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240" rIns="48240" tIns="48240" bIns="48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Kehänuoli 28"/>
            <p:cNvGrpSpPr/>
            <p:nvPr/>
          </p:nvGrpSpPr>
          <p:grpSpPr>
            <a:xfrm>
              <a:off x="2134800" y="0"/>
              <a:ext cx="4131360" cy="2191680"/>
              <a:chOff x="2134800" y="0"/>
              <a:chExt cx="4131360" cy="2191680"/>
            </a:xfrm>
          </p:grpSpPr>
          <p:pic>
            <p:nvPicPr>
              <p:cNvPr id="55" name="Kehänuoli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4800" y="0"/>
                <a:ext cx="3855600" cy="9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2742480" y="449280"/>
                <a:ext cx="3523680" cy="17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kstikehys 29"/>
          <p:cNvSpPr/>
          <p:nvPr/>
        </p:nvSpPr>
        <p:spPr>
          <a:xfrm>
            <a:off x="6572160" y="12859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kstikehys 30"/>
          <p:cNvSpPr/>
          <p:nvPr/>
        </p:nvSpPr>
        <p:spPr>
          <a:xfrm>
            <a:off x="4000680" y="60008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ive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ikehys 31"/>
          <p:cNvSpPr/>
          <p:nvPr/>
        </p:nvSpPr>
        <p:spPr>
          <a:xfrm>
            <a:off x="500040" y="2214720"/>
            <a:ext cx="17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Kaaviokuva 33" descr=""/>
          <p:cNvPicPr/>
          <p:nvPr/>
        </p:nvPicPr>
        <p:blipFill>
          <a:blip r:embed="rId4"/>
          <a:stretch/>
        </p:blipFill>
        <p:spPr>
          <a:xfrm>
            <a:off x="1835280" y="981000"/>
            <a:ext cx="6303960" cy="4973760"/>
          </a:xfrm>
          <a:prstGeom prst="rect">
            <a:avLst/>
          </a:prstGeom>
          <a:ln w="0">
            <a:noFill/>
          </a:ln>
        </p:spPr>
      </p:pic>
      <p:sp>
        <p:nvSpPr>
          <p:cNvPr id="61" name="Tekstikehys 34"/>
          <p:cNvSpPr/>
          <p:nvPr/>
        </p:nvSpPr>
        <p:spPr>
          <a:xfrm>
            <a:off x="6372360" y="2060640"/>
            <a:ext cx="1814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ikehys 35"/>
          <p:cNvSpPr/>
          <p:nvPr/>
        </p:nvSpPr>
        <p:spPr>
          <a:xfrm>
            <a:off x="6858000" y="4143240"/>
            <a:ext cx="13860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S AN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kstikehys 36"/>
          <p:cNvSpPr/>
          <p:nvPr/>
        </p:nvSpPr>
        <p:spPr>
          <a:xfrm>
            <a:off x="3635280" y="5445000"/>
            <a:ext cx="936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ikehys 37"/>
          <p:cNvSpPr/>
          <p:nvPr/>
        </p:nvSpPr>
        <p:spPr>
          <a:xfrm>
            <a:off x="1571760" y="3643200"/>
            <a:ext cx="1487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ikehys 38"/>
          <p:cNvSpPr/>
          <p:nvPr/>
        </p:nvSpPr>
        <p:spPr>
          <a:xfrm>
            <a:off x="3000240" y="1357200"/>
            <a:ext cx="1714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UIDANCE AN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9:02:04Z</dcterms:created>
  <dc:creator>Tiina</dc:creator>
  <dc:description/>
  <dc:language>en-US</dc:language>
  <cp:lastModifiedBy>tiina suorsa</cp:lastModifiedBy>
  <dcterms:modified xsi:type="dcterms:W3CDTF">2010-06-08T17:47:38Z</dcterms:modified>
  <cp:revision>16</cp:revision>
  <dc:subject/>
  <dc:title>Dia 1</dc:title>
</cp:coreProperties>
</file>